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8AA-D7C1-472D-8AE7-84EDED19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905-4EE3-4BA4-BB56-81C29763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24C-9E64-494A-BE78-332E1D64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5C8-66DA-40BE-AE0A-F8948074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5B4-6E39-45BD-841D-033E9D60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1AE3-090F-4626-AF8B-20049ACB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6CD4-10B7-4639-9BF8-A046331C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9673-9F3E-4A39-AF23-061BB75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75AF-2053-4431-B2D8-B19A1D0A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4EA-08BD-4F73-B9E1-2BE1BED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0829-CA83-4B25-BC58-AF3848E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F07-B92B-422D-9AA6-622FA9F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1DF-57C7-44CF-8EA1-771627D1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314C-2865-4B02-B3C8-15FA778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CB15-4A7C-4D42-9B5B-360822B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6764-36BE-471E-B467-8AA12A4E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DAD-9C8F-4518-B546-071F5588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73E-3EC7-48E5-9A60-DB6AC2B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095-718D-4FD0-9545-F6CDB0F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39A-0C28-471F-B8BA-73AE98CB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991-1033-40F9-B9EC-3F8D1D21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81F-EC41-41CC-A63F-19FDCBE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951-24CB-464E-9F69-CF9CF43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F65-229D-4445-AAB4-85FCA1F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9A2-0812-417A-B630-FADA67894C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FF2-BDD1-4895-89D8-465AAF36B69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host.vendio.com/bin/imageserver.x/00000000/handnvan/sweeney_097m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docsouth.unc.edu/wwi/41874/100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imes New Roman"/>
              </a:rPr>
              <a:t>9.2:  The War at Home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 war changes American society politically, economically, and social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.  Social Chang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frican Americans -The Great Mig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0’s of thousands of AA move from Southern to Northern c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cape discrim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b opportu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Picture 6" descr="Family in Chicago during Great Migration"/>
          <p:cNvPicPr/>
          <p:nvPr/>
        </p:nvPicPr>
        <p:blipFill>
          <a:blip r:embed="rId1"/>
          <a:stretch/>
        </p:blipFill>
        <p:spPr>
          <a:xfrm>
            <a:off x="5029200" y="2133720"/>
            <a:ext cx="3962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2.  Mexican American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d as farmers and ranc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d to big c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regated and discriminated again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Picture 5" descr="http://cache1.asset-cache.net/xc/50620934.jpg?v=1&amp;c=IWSAsset&amp;k=2&amp;d=E41C9FE5C4AA0A14F4C1881F99FC72610864FFE6BA0D6CBB85D2D3A5EEF35AB9B01E70F2B3269972"/>
          <p:cNvPicPr/>
          <p:nvPr/>
        </p:nvPicPr>
        <p:blipFill>
          <a:blip r:embed="rId1"/>
          <a:stretch/>
        </p:blipFill>
        <p:spPr>
          <a:xfrm>
            <a:off x="5029200" y="1752480"/>
            <a:ext cx="3780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F.  Committee on Public Infor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sible for “selling” the war – wh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</a:t>
            </a: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go to war w/all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  Four Minute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livered speeches in 4 minutes on w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Picture 5" descr="tw0107rimersburg"/>
          <p:cNvPicPr/>
          <p:nvPr/>
        </p:nvPicPr>
        <p:blipFill>
          <a:blip r:embed="rId1"/>
          <a:stretch/>
        </p:blipFill>
        <p:spPr>
          <a:xfrm>
            <a:off x="2895480" y="2909880"/>
            <a:ext cx="48769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.  Civil Liberties are Attack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Americans of German descent attack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st job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ysically attack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Espionage and Sedition A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yone who speaks badly or gets in the way of  the govt war efforts = $10,000 fine, 20 yrs. j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Problem with this act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H.  American Military Mobilization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 few men = draft=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ective Service Ac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datory registration men 18-45 y/o (21-2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men not allowe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028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5" descr="0624_I-Want-You"/>
          <p:cNvPicPr/>
          <p:nvPr/>
        </p:nvPicPr>
        <p:blipFill>
          <a:blip r:embed="rId1"/>
          <a:stretch/>
        </p:blipFill>
        <p:spPr>
          <a:xfrm>
            <a:off x="5334120" y="1600200"/>
            <a:ext cx="31780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I.  African Americans in Military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regated un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rst time allowed  AA offic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ll experienced discrimin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3028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1004760" y="135000"/>
            <a:ext cx="6796080" cy="9360"/>
            <a:chOff x="1004760" y="135000"/>
            <a:chExt cx="6796080" cy="9360"/>
          </a:xfrm>
        </p:grpSpPr>
        <p:grpSp>
          <p:nvGrpSpPr>
            <p:cNvPr id="162" name="Group 6"/>
            <p:cNvGrpSpPr/>
            <p:nvPr/>
          </p:nvGrpSpPr>
          <p:grpSpPr>
            <a:xfrm>
              <a:off x="1009440" y="139680"/>
              <a:ext cx="6786720" cy="360"/>
              <a:chOff x="1009440" y="139680"/>
              <a:chExt cx="6786720" cy="360"/>
            </a:xfrm>
          </p:grpSpPr>
          <p:sp>
            <p:nvSpPr>
              <p:cNvPr id="163" name="Rectangle 7"/>
              <p:cNvSpPr/>
              <p:nvPr/>
            </p:nvSpPr>
            <p:spPr>
              <a:xfrm>
                <a:off x="1009440" y="139680"/>
                <a:ext cx="6786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4" name="Rectangle 8"/>
              <p:cNvSpPr/>
              <p:nvPr/>
            </p:nvSpPr>
            <p:spPr>
              <a:xfrm>
                <a:off x="1009440" y="139680"/>
                <a:ext cx="6786720" cy="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65" name="Rectangle 9"/>
            <p:cNvSpPr/>
            <p:nvPr/>
          </p:nvSpPr>
          <p:spPr>
            <a:xfrm>
              <a:off x="1004760" y="135000"/>
              <a:ext cx="6796080" cy="9360"/>
            </a:xfrm>
            <a:prstGeom prst="rect">
              <a:avLst/>
            </a:prstGeom>
            <a:noFill/>
            <a:ln cap="sq" w="9360">
              <a:solidFill>
                <a:srgbClr val="9d2b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6" name="Picture 10" descr="sweeney_097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78000"/>
            <a:ext cx="4114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.  Women in the Milit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ly clerical pos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my corps of Nur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rank, different pay and benefi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30280" y="16765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5" descr="Women in uniform"/>
          <p:cNvPicPr/>
          <p:nvPr/>
        </p:nvPicPr>
        <p:blipFill>
          <a:blip r:embed="rId1"/>
          <a:stretch/>
        </p:blipFill>
        <p:spPr>
          <a:xfrm>
            <a:off x="5029200" y="2362320"/>
            <a:ext cx="37339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War Industries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6765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d to a wartime econ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rolled what and how much of a product was made by a company and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 prices on produ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’s wrong with this!!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Picture 5" descr="http://www1.alibris-static.com/isbn/9781166139360.gif"/>
          <p:cNvPicPr/>
          <p:nvPr/>
        </p:nvPicPr>
        <p:blipFill>
          <a:blip r:embed="rId1"/>
          <a:stretch/>
        </p:blipFill>
        <p:spPr>
          <a:xfrm>
            <a:off x="5464080" y="1676520"/>
            <a:ext cx="28195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War Industries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od Administ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 save food - eat les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9" descr="pp_us_39"/>
          <p:cNvPicPr/>
          <p:nvPr/>
        </p:nvPicPr>
        <p:blipFill>
          <a:blip r:embed="rId1"/>
          <a:stretch/>
        </p:blipFill>
        <p:spPr>
          <a:xfrm>
            <a:off x="6273720" y="2895480"/>
            <a:ext cx="2641680" cy="3962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pp_us_12"/>
          <p:cNvPicPr/>
          <p:nvPr/>
        </p:nvPicPr>
        <p:blipFill>
          <a:blip r:embed="rId2"/>
          <a:stretch/>
        </p:blipFill>
        <p:spPr>
          <a:xfrm>
            <a:off x="2971800" y="2878200"/>
            <a:ext cx="2766960" cy="3979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pp_us_52"/>
          <p:cNvPicPr/>
          <p:nvPr/>
        </p:nvPicPr>
        <p:blipFill>
          <a:blip r:embed="rId3"/>
          <a:stretch/>
        </p:blipFill>
        <p:spPr>
          <a:xfrm>
            <a:off x="0" y="2895480"/>
            <a:ext cx="2700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.  Victory Garden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3" name="Picture 4" descr="pp_us_02"/>
          <p:cNvPicPr/>
          <p:nvPr/>
        </p:nvPicPr>
        <p:blipFill>
          <a:blip r:embed="rId1"/>
          <a:stretch/>
        </p:blipFill>
        <p:spPr>
          <a:xfrm>
            <a:off x="1295280" y="1523880"/>
            <a:ext cx="3554640" cy="506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igvic"/>
          <p:cNvPicPr/>
          <p:nvPr/>
        </p:nvPicPr>
        <p:blipFill>
          <a:blip r:embed="rId2"/>
          <a:stretch/>
        </p:blipFill>
        <p:spPr>
          <a:xfrm>
            <a:off x="5181480" y="1523880"/>
            <a:ext cx="35337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War Industries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el Administ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d coal and o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erved energy: daylight savings, shorter work week, heatless Monday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Financing the War</a:t>
            </a:r>
            <a:br>
              <a:rPr sz="44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w/Liberty War Bonds &amp; Taxe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ly a friend of Germany would refuse to buy war bond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$32 Bill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Picture 6" descr="pp_us_174"/>
          <p:cNvPicPr/>
          <p:nvPr/>
        </p:nvPicPr>
        <p:blipFill>
          <a:blip r:embed="rId1"/>
          <a:stretch/>
        </p:blipFill>
        <p:spPr>
          <a:xfrm>
            <a:off x="357120" y="1568520"/>
            <a:ext cx="3100320" cy="3751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pp_us_68"/>
          <p:cNvPicPr/>
          <p:nvPr/>
        </p:nvPicPr>
        <p:blipFill>
          <a:blip r:embed="rId2"/>
          <a:stretch/>
        </p:blipFill>
        <p:spPr>
          <a:xfrm>
            <a:off x="3581280" y="1565280"/>
            <a:ext cx="2430720" cy="3754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lick to En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1568520"/>
            <a:ext cx="2514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National War Labor Boar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lped prevent strikes during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roved working conditions and p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ion membership increa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Picture 5" descr="http://www.pbs.org/nbr/site/images/hb-6.jpg"/>
          <p:cNvPicPr/>
          <p:nvPr/>
        </p:nvPicPr>
        <p:blipFill>
          <a:blip r:embed="rId1"/>
          <a:stretch/>
        </p:blipFill>
        <p:spPr>
          <a:xfrm>
            <a:off x="5105520" y="1752480"/>
            <a:ext cx="3504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Women and W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rved in both traditional and non traditional job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 left jobs after w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Picture 8" descr="WWI_women"/>
          <p:cNvPicPr/>
          <p:nvPr/>
        </p:nvPicPr>
        <p:blipFill>
          <a:blip r:embed="rId1"/>
          <a:stretch/>
        </p:blipFill>
        <p:spPr>
          <a:xfrm>
            <a:off x="5235480" y="1600200"/>
            <a:ext cx="3908520" cy="2092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warwork3web"/>
          <p:cNvPicPr/>
          <p:nvPr/>
        </p:nvPicPr>
        <p:blipFill>
          <a:blip r:embed="rId2"/>
          <a:stretch/>
        </p:blipFill>
        <p:spPr>
          <a:xfrm>
            <a:off x="838080" y="3733920"/>
            <a:ext cx="4114800" cy="2863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Women working during WWI"/>
          <p:cNvPicPr/>
          <p:nvPr/>
        </p:nvPicPr>
        <p:blipFill>
          <a:blip r:embed="rId3"/>
          <a:stretch/>
        </p:blipFill>
        <p:spPr>
          <a:xfrm>
            <a:off x="5105520" y="3886200"/>
            <a:ext cx="3821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Roles during war helped pass 19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2251080" y="2263680"/>
            <a:ext cx="4643280" cy="2286000"/>
            <a:chOff x="2251080" y="2263680"/>
            <a:chExt cx="4643280" cy="2286000"/>
          </a:xfrm>
        </p:grpSpPr>
        <p:sp>
          <p:nvSpPr>
            <p:cNvPr id="136" name="Rectangle 5"/>
            <p:cNvSpPr/>
            <p:nvPr/>
          </p:nvSpPr>
          <p:spPr>
            <a:xfrm>
              <a:off x="2251080" y="2263680"/>
              <a:ext cx="4643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251080" y="2263680"/>
              <a:ext cx="46432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144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8" name="Picture 10" descr="pp_us_175"/>
          <p:cNvPicPr/>
          <p:nvPr/>
        </p:nvPicPr>
        <p:blipFill>
          <a:blip r:embed="rId1"/>
          <a:stretch/>
        </p:blipFill>
        <p:spPr>
          <a:xfrm>
            <a:off x="5029200" y="533520"/>
            <a:ext cx="3749760" cy="506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pp_us_292"/>
          <p:cNvPicPr/>
          <p:nvPr/>
        </p:nvPicPr>
        <p:blipFill>
          <a:blip r:embed="rId2"/>
          <a:stretch/>
        </p:blipFill>
        <p:spPr>
          <a:xfrm>
            <a:off x="1676520" y="2743200"/>
            <a:ext cx="290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1-15T20:58:34Z</dcterms:modified>
  <cp:revision>18</cp:revision>
  <dc:subject/>
  <dc:title>PowerPoint Presentation</dc:title>
</cp:coreProperties>
</file>